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94D6-6265-4198-B167-55E5547C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A2CD-8500-49F2-BC8E-E19442BF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587B-D2E7-4077-836C-BA4B063D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C74F-2B6C-42A3-A9F0-91EB7270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48A4-B846-47B5-86BC-F074F738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E370-6258-4B72-88A1-F3AF1145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9A92-A2C4-4D99-B17D-2562A6DD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0AA1-6FDD-4F51-9B02-D15A6F68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7076-4806-49E6-AAD0-500B0C3B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0043-43A3-4B48-89B4-D571E6BF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53D4-47A3-4664-9FFC-58199FB5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DF0E-BD6C-4B70-BB3E-40291BAE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3893-61FB-4A03-B7EC-1BE2D4EB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7C9B-C730-4337-9716-EDFAEAA9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669F-9FDB-41F1-BF2A-183C5D76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8390-298C-443E-9976-2ECD228E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C490-333E-4F5B-9066-4D46C422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9AA0-6451-4380-B53A-8F957380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57EE-273D-4CC1-91EC-83C0F830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9F19-08C5-40F8-A7B0-8E255811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F4E6-785F-45F4-9350-5FD2FCC1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B96AB-FF7E-471C-AEE1-04719125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4375-1713-48C8-A7BC-F7496693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6F4B-98FF-473C-8984-8A1252F0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E7DC-0835-4BD9-A628-569F4E22D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9BCE-9D3D-428D-AFBA-AEEA527FC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xinu.mscs.mu.edu/HOWTO:Build_and_Deploy_XIN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2204640"/>
            <a:ext cx="643572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Embedded XINU</a:t>
            </a: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  </a:t>
            </a:r>
            <a:br>
              <a:rPr sz="5000"/>
            </a:b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SW &amp; HW preparation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15800" y="4266720"/>
            <a:ext cx="2824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09/5/2008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David You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oftware prepar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Download the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Embedded XINU ver 1.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Cross-compil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A cross-compiler from a host computer's architecture to MIPSEL (little endian MIP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666699"/>
                </a:solidFill>
                <a:uFillTx/>
                <a:latin typeface="굴림"/>
                <a:hlinkClick r:id="rId1"/>
              </a:rPr>
              <a:t>http://xinu.mscs.mu.edu/HOWTO:Build_and_Deploy_XINU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erial communication softwa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TFTP server software (30-day Trial version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http://www.tftp-server.com/tftp-download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Hardware prepar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odified WRT54GL rout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http://xinu.mscs.mu.edu/HOWTO:Modify_the_Linksys_hardwa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Computer(s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Run TFTP serv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Compile the XINU with cross compil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Connect the router trough the serial communic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n extra rout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Establishing a small network between a computer and the modified router for downloading the XINU onto the router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onnec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2098440" cy="1684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87640" cy="1928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187280" y="4149720"/>
            <a:ext cx="2016360" cy="1838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2340000" y="2924280"/>
            <a:ext cx="1079640" cy="107928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2924280"/>
            <a:ext cx="1079640" cy="108108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5084640"/>
            <a:ext cx="24476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342900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굴림"/>
              </a:rPr>
              <a:t>Network connection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4581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Serial Communication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60865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굴림"/>
              </a:rPr>
              <a:t>IP: 192.168.0.130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60865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굴림"/>
              </a:rPr>
              <a:t>IP: 192.168.0.101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How to download XINU onto the router?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http://xinu.mscs.mu.edu/HOWTO:Connect_to_a_modified_ro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heck the connection among the devic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heck the IP address given by the D-link router to the computer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Run a TFTP server program and put the XINU boot image in a proper director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Make serial conne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8 data bits, no parity bit, and 1 stop bit (8N1), 115200 bps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et the CFE promp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irst, push the CTRL+C with the serial connection open and then power on the WRT54GL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hange the IP address of the networ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FE&gt; ifconfig eth0 -aut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ownload the boot imag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FE&gt; boot -elf [TFTP server IP]:xinu.boo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3:37:21Z</dcterms:created>
  <dc:creator>Daekeun You</dc:creator>
  <dc:description/>
  <dc:language>en-US</dc:language>
  <cp:lastModifiedBy>Daekeun You</cp:lastModifiedBy>
  <dcterms:modified xsi:type="dcterms:W3CDTF">2008-09-05T01:17:23Z</dcterms:modified>
  <cp:revision>9</cp:revision>
  <dc:subject/>
  <dc:title>System environment</dc:title>
</cp:coreProperties>
</file>