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5CCF-63AE-4CB5-B1E5-0E607DE6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E97F-AAE3-4C71-B953-B2778FD5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D485-0538-4453-90FC-F25BA641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EA51-CAC3-4F75-A39F-CA34F9C5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6294-761B-4D09-B6B4-8AF9653E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8ADF-FB1D-4FB3-B1FB-07A8E78E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864C-BE42-4164-9225-1A87CEDE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DCC5-189C-4AC3-AFCD-80AD2CAE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8259-4154-4BF0-85E3-0DF35438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4F5F-80CB-40E6-9B0B-7EBEAB87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1456-60D1-4D5C-BD9C-2075445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C47E-1314-4442-9E72-3790BFD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1364-92BB-4B93-B592-8ED5855D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F32E-810B-4CCE-8F80-C214DDD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5684-8E8E-4613-9FA7-54908E8F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1987-FB39-46A2-AE77-7A993C8C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C3DD-32F9-4FE1-851E-12927D0B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626F-78F4-4FD5-9AB9-49A8509C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A6F8-C58E-4B91-BBA7-1CC7F8EB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C48D-94B0-40D4-B105-CE7A2BBA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21EA-6F08-4A41-BF5B-6A71342B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8B3F-223C-4C95-B461-C241638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80753-6DB8-45D6-B7B0-F2BA6CA5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E697-8815-4654-AFD6-7C3C40FF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EF69-6753-4C39-8AD4-345B61F7C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4FE9-503C-4D1B-8A39-EC4AF54E2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ulim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xinu.mscs.mu.edu/HOWTO:Build_XINU" TargetMode="External"/><Relationship Id="rId2" Type="http://schemas.openxmlformats.org/officeDocument/2006/relationships/hyperlink" Target="http://xinu.mscs.mu.edu/HOWTO:Build_XINU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inu.mscs.mu.edu/Shel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xinu.mscs.mu.edu/docs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2204640"/>
            <a:ext cx="643572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ulim"/>
              </a:rPr>
              <a:t>Shell programming</a:t>
            </a:r>
            <a:endParaRPr b="0" lang="en-US" sz="4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15800" y="4266720"/>
            <a:ext cx="2824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ulim"/>
              </a:rPr>
              <a:t>9/12/2008</a:t>
            </a:r>
            <a:endParaRPr b="0" lang="en-US" sz="3400" spc="-1" strike="noStrike">
              <a:solidFill>
                <a:srgbClr val="000000"/>
              </a:solidFill>
              <a:latin typeface="Gulim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ulim"/>
              </a:rPr>
              <a:t>David You</a:t>
            </a:r>
            <a:endParaRPr b="0" lang="en-US" sz="3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Gulim"/>
              </a:rPr>
              <a:t>Using cross compiler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Cross compiler download and install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666699"/>
                </a:solidFill>
                <a:uFillTx/>
                <a:latin typeface="Gulim"/>
                <a:hlinkClick r:id="rId1"/>
              </a:rPr>
              <a:t>http://</a:t>
            </a:r>
            <a:r>
              <a:rPr b="0" lang="ko-KR" sz="2000" spc="-1" strike="noStrike" u="sng">
                <a:solidFill>
                  <a:srgbClr val="666699"/>
                </a:solidFill>
                <a:uFillTx/>
                <a:latin typeface="Gulim"/>
                <a:hlinkClick r:id="rId2"/>
              </a:rPr>
              <a:t>xinu.mscs.mu.edu/HOWTO:Build_XINU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Log on to </a:t>
            </a: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nickelback.cse.buffalo.edu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Make a proper directory for xinu project and copy the latest xinu source file from 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/web/faculty/bina/cse321/fall2008/NEXOS</a:t>
            </a: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Unzip the source file (it would be gzip file or tar file)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</a:rPr>
              <a:t>gunzip &lt; file.tar.gz | tar xvf –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Gulim"/>
              </a:rPr>
              <a:t>tar xvf file.tar</a:t>
            </a: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odify </a:t>
            </a: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MIPS_ROOT variable in 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ompile/makeVars file</a:t>
            </a: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 to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</a:rPr>
              <a:t>/projects/bina/NEXOS/CSE321/project/mipsel-dev/bin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Shell programming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Shell programming guide lin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666699"/>
                </a:solidFill>
                <a:uFillTx/>
                <a:latin typeface="Gulim"/>
                <a:hlinkClick r:id="rId1"/>
              </a:rPr>
              <a:t>http://xinu.mscs.mu.edu/Shel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Make a test program 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ulim"/>
              </a:rPr>
              <a:t>xsh_test.c has a blank test function.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ulim"/>
              </a:rPr>
              <a:t>Implement something you want to do in the xsh_test.c file and just compile.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ulim"/>
              </a:rPr>
              <a:t>No need to do anything else.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Add a brand new command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ulim"/>
              </a:rPr>
              <a:t>Follow the procedures in the shell programming guide line webpage.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Gulim"/>
              </a:rPr>
              <a:t>You have to put your source files into some proper directories and modify some files such as Makefile, shell.c and shell.h.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Embedded XINU directories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Embedded XINU web site has documentation page explaining directory structure, data structure and relationship between source files.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Gulim"/>
                <a:hlinkClick r:id="rId1"/>
              </a:rPr>
              <a:t>http://xinu.mscs.mu.edu/docs/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Just click and open any linked pages to see more about data structures and source files.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Most important directories are compile, shell and system.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Test programs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Gulim"/>
              </a:rPr>
              <a:t>Hello world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ulim"/>
              </a:rPr>
              <a:t>The simplest way is to modify the xsh_test.c file and compile.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Gulim"/>
              </a:rPr>
              <a:t>You can add your own source file(xsh_hello.c or something) and add the command to proper position.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3:37:21Z</dcterms:created>
  <dc:creator>Daekeun You</dc:creator>
  <dc:description/>
  <dc:language>en-US</dc:language>
  <cp:lastModifiedBy>dyou</cp:lastModifiedBy>
  <dcterms:modified xsi:type="dcterms:W3CDTF">2008-09-11T22:44:19Z</dcterms:modified>
  <cp:revision>12</cp:revision>
  <dc:subject/>
  <dc:title>System environment</dc:title>
</cp:coreProperties>
</file>