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9668-4739-45AC-B518-11721B9A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6CEA-12F3-4722-B10F-FBF8BC1A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B0C2-B40A-4475-9F91-5A58BE77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BF137-C210-45B2-942D-50565C84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2625-6BB7-44A0-92C8-30D55868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8A5B-8F89-4F5C-B2CF-1FAD647B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9E58-F622-4556-9095-ACAF0AB4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EA94-D54F-4510-9A82-BA5C5F2E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FE83-6B67-45F7-B892-B68A182B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DD9F-C78F-40C8-BD74-6A9DF407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E85A-E060-4D7A-8F39-10C4EA97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A1801-BF32-4049-A622-78AFAC01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7A86-7B9D-4FE7-BCBC-7F6708C9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5E08-C8DA-4B9E-A036-27A38254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FFC4-D639-412F-91D3-A5A90DEF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35BC-186C-467B-8CD5-5CBDE110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F380-B956-4B8C-8AC1-229F32DD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1FA7B-C79C-4DC3-A633-404B10A2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302B-09CA-48C6-A603-89724FC2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55365-A3AC-423D-AAD4-765BC4F0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1890-8755-42C6-BCD2-3FFC9FE3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5EB82-5FA5-4BE5-A802-23E48CD3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2CE6-ADCD-4623-8E77-3FFFF9CD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1C557-438E-47DC-9045-D57576C6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1CA9-3EC8-4DFC-B0A8-1C58D3B8E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DE76-1068-4B90-B2C8-AC9871C6A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ulim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xinu.mscs.mu.edu/HOWTO:Build_XINU" TargetMode="External"/><Relationship Id="rId2" Type="http://schemas.openxmlformats.org/officeDocument/2006/relationships/hyperlink" Target="http://xinu.mscs.mu.edu/HOWTO:Build_XINU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inu.mscs.mu.edu/Shel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xinu.mscs.mu.edu/docs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2204640"/>
            <a:ext cx="643572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ulim"/>
              </a:rPr>
              <a:t>Shell programming</a:t>
            </a:r>
            <a:endParaRPr b="0" lang="en-US" sz="4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15800" y="4266720"/>
            <a:ext cx="2824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ulim"/>
              </a:rPr>
              <a:t>9/12/2008</a:t>
            </a:r>
            <a:endParaRPr b="0" lang="en-US" sz="3400" spc="-1" strike="noStrike">
              <a:solidFill>
                <a:srgbClr val="000000"/>
              </a:solidFill>
              <a:latin typeface="Gulim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ulim"/>
              </a:rPr>
              <a:t>David You</a:t>
            </a:r>
            <a:endParaRPr b="0" lang="en-US" sz="3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Gulim"/>
              </a:rPr>
              <a:t>Using cross compiler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Cross compiler download and installatio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666699"/>
                </a:solidFill>
                <a:uFillTx/>
                <a:latin typeface="Gulim"/>
                <a:hlinkClick r:id="rId1"/>
              </a:rPr>
              <a:t>http://</a:t>
            </a:r>
            <a:r>
              <a:rPr b="0" lang="ko-KR" sz="2000" spc="-1" strike="noStrike" u="sng">
                <a:solidFill>
                  <a:srgbClr val="666699"/>
                </a:solidFill>
                <a:uFillTx/>
                <a:latin typeface="Gulim"/>
                <a:hlinkClick r:id="rId2"/>
              </a:rPr>
              <a:t>xinu.mscs.mu.edu/HOWTO:Build_XINU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Log on to </a:t>
            </a: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nickelback.cse.buffalo.edu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Make a proper directory for xinu project and copy the latest xinu source file from 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/web/faculty/bina/cse321/fall2008/NEXOS</a:t>
            </a: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Unzip the source file (it would be gzip file or tar file)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</a:rPr>
              <a:t>gunzip &lt; file.tar.gz | tar xvf –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Gulim"/>
              </a:rPr>
              <a:t>tar xvf file.tar</a:t>
            </a: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odify </a:t>
            </a: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MIPS_ROOT variable in 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ompile/makeVars file</a:t>
            </a: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 to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</a:rPr>
              <a:t>/projects/bina/NEXOS/CSE321/project/mipsel-dev/bin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Compi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Shell programming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Shell programming guide lin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666699"/>
                </a:solidFill>
                <a:uFillTx/>
                <a:latin typeface="Gulim"/>
                <a:hlinkClick r:id="rId1"/>
              </a:rPr>
              <a:t>http://xinu.mscs.mu.edu/Shel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Make a test program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ulim"/>
              </a:rPr>
              <a:t>xsh_test.c has a blank test function.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ulim"/>
              </a:rPr>
              <a:t>Implement something you want to do in the xsh_test.c file and just compile.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ulim"/>
              </a:rPr>
              <a:t>No need to do anything else.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Add a brand new command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ulim"/>
              </a:rPr>
              <a:t>Follow the procedures in the shell programming guide line webpage.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ulim"/>
              </a:rPr>
              <a:t>You have to put your source files into some proper directories and modify some files such as Makefile, shell.c and shell.h.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Embedded XINU directories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Embedded XINU web site has documentation page explaining directory structure, data structure and relationship between source files.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99"/>
                </a:solidFill>
                <a:uFillTx/>
                <a:latin typeface="Gulim"/>
                <a:hlinkClick r:id="rId1"/>
              </a:rPr>
              <a:t>http://xinu.mscs.mu.edu/docs/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Just click and open any linked pages to see more about data structures and source files.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Most important directories are compile, shell and system. 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Test programs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Gulim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ulim"/>
              </a:rPr>
              <a:t>The simplest way is to modify the xsh_test.c file and compile. 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ulim"/>
              </a:rPr>
              <a:t>You can add your own source file(xsh_hello.c or something) and add the command to proper position.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23:37:21Z</dcterms:created>
  <dc:creator>Daekeun You</dc:creator>
  <dc:description/>
  <dc:language>en-US</dc:language>
  <cp:lastModifiedBy>dyou</cp:lastModifiedBy>
  <dcterms:modified xsi:type="dcterms:W3CDTF">2008-09-11T22:44:19Z</dcterms:modified>
  <cp:revision>12</cp:revision>
  <dc:subject/>
  <dc:title>System environment</dc:title>
</cp:coreProperties>
</file>